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3527-4698-47B8-AB71-18AD62AD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075-93B8-4B81-8DA4-92CEA063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EF7-50B4-4868-95A6-34A2294D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38C-E67E-4569-ACAC-DD0BD96A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FCA-0087-41FA-8274-68BED183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A5A-C918-4D76-9EE8-5BE23148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ABA-A29B-48C5-A306-77DA4498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2B6-58BB-42A4-9D9A-0765DF80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100-87B1-4A8E-8CFE-237C3D26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23B-AAB8-4FD8-86A5-A54F117F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C02-B7E9-491E-B0D3-1B5A3B52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907-D08B-4154-A2D4-07186447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4328-918F-4AE8-8214-1935BB39BB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39A7-ADB1-431C-A854-4DF8238D3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6324480"/>
            <a:ext cx="9144000" cy="520920"/>
          </a:xfrm>
          <a:prstGeom prst="pie">
            <a:avLst/>
          </a:prstGeom>
          <a:solidFill>
            <a:srgbClr val="feba1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515280" y="216000"/>
            <a:ext cx="2489040" cy="330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2882880"/>
            <a:ext cx="9144000" cy="1854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843360" y="5219640"/>
            <a:ext cx="2606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165680" y="1523880"/>
            <a:ext cx="592776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MSOffice Excel</a:t>
            </a:r>
            <a:r>
              <a:rPr b="0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-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Part</a:t>
            </a:r>
            <a:r>
              <a:rPr b="0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    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Getting</a:t>
            </a:r>
            <a:r>
              <a:rPr b="0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Started</a:t>
            </a:r>
            <a:r>
              <a:rPr b="0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with</a:t>
            </a:r>
            <a:r>
              <a:rPr b="0" lang="en-US" sz="39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00b050"/>
                </a:solidFill>
                <a:latin typeface="Calibri"/>
                <a:ea typeface="宋体"/>
              </a:rPr>
              <a:t>Exc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331200" y="6566040"/>
            <a:ext cx="31921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宋体"/>
              </a:rPr>
              <a:t>New</a:t>
            </a:r>
            <a:r>
              <a:rPr b="1" lang="en-US" sz="14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宋体"/>
              </a:rPr>
              <a:t>Perspectives</a:t>
            </a:r>
            <a:r>
              <a:rPr b="1" lang="en-US" sz="14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宋体"/>
              </a:rPr>
              <a:t>on</a:t>
            </a:r>
            <a:r>
              <a:rPr b="1" lang="en-US" sz="14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宋体"/>
              </a:rPr>
              <a:t>Microsoft</a:t>
            </a:r>
            <a:r>
              <a:rPr b="1" lang="en-US" sz="14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宋体"/>
              </a:rPr>
              <a:t>Office</a:t>
            </a:r>
            <a:r>
              <a:rPr b="1" lang="en-US" sz="1400" spc="-1" strike="noStrike">
                <a:solidFill>
                  <a:srgbClr val="00b050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宋体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C:\Users\PCS\Desktop\téléchargement.jpg"/>
          <p:cNvPicPr/>
          <p:nvPr/>
        </p:nvPicPr>
        <p:blipFill>
          <a:blip r:embed="rId3"/>
          <a:stretch/>
        </p:blipFill>
        <p:spPr>
          <a:xfrm>
            <a:off x="7467480" y="1143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"/>
          <p:cNvSpPr/>
          <p:nvPr/>
        </p:nvSpPr>
        <p:spPr>
          <a:xfrm>
            <a:off x="536040" y="495360"/>
            <a:ext cx="8211960" cy="32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icrosof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201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clud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ddition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eve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re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clud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basi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math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rigonometr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tatistics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look-up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har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eatur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clud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ddi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ribbon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rich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labeling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d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i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520560" y="1930320"/>
            <a:ext cx="7874280" cy="3949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523440" y="406440"/>
            <a:ext cx="6039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Spreadshe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a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537840" y="406440"/>
            <a:ext cx="5211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she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Nav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524880" y="1384200"/>
            <a:ext cx="789156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kin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e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r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i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ovi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is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dentif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/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990720" y="4102200"/>
            <a:ext cx="7657920" cy="2158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549720" y="507960"/>
            <a:ext cx="771408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she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Nav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avig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avig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us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keyboard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o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a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x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71236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526680" y="406440"/>
            <a:ext cx="6427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she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Navig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546840" y="533520"/>
            <a:ext cx="702144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Plann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lan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l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ppear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518040" y="406440"/>
            <a:ext cx="6304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rea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Ne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652320" y="1409760"/>
            <a:ext cx="777600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cr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ackst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ibbon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i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spl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ackstag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iew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aviga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spla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cre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lan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il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528120" y="406440"/>
            <a:ext cx="6081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she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317880" y="1422360"/>
            <a:ext cx="813996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a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a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e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le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nam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rac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ximum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clu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d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dju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301680" y="66038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72720" y="609480"/>
            <a:ext cx="790632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she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tr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ra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gin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left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s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right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"/>
          <p:cNvSpPr/>
          <p:nvPr/>
        </p:nvSpPr>
        <p:spPr>
          <a:xfrm>
            <a:off x="8325000" y="5079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515160" y="571680"/>
            <a:ext cx="81396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ext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Numbers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mbina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etters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umbers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ymbo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t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ferr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t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umb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umerica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athematic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alc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im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mmon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cogniz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at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541080" y="406440"/>
            <a:ext cx="2436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517680" y="1422360"/>
            <a:ext cx="803268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nderst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preadshe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r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cro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roug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alyz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quantit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ber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016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46872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511560" y="533520"/>
            <a:ext cx="777852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ppea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un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uto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ult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520560" y="1359000"/>
            <a:ext cx="7925040" cy="2692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532800" y="406440"/>
            <a:ext cx="3100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673200" y="2120760"/>
            <a:ext cx="8026200" cy="2006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533160" y="406440"/>
            <a:ext cx="4217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531720" y="406440"/>
            <a:ext cx="4601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di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"/>
          <p:cNvSpPr/>
          <p:nvPr/>
        </p:nvSpPr>
        <p:spPr>
          <a:xfrm>
            <a:off x="534240" y="1384200"/>
            <a:ext cx="8012160" cy="32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rr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a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plac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nte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imp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yp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nt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verwri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previou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ntr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e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plac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n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par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’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ntent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or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di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od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"/>
          <p:cNvSpPr/>
          <p:nvPr/>
        </p:nvSpPr>
        <p:spPr>
          <a:xfrm>
            <a:off x="496080" y="406440"/>
            <a:ext cx="8291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di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nt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di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540720" y="1282680"/>
            <a:ext cx="2169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d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1112040" y="1854360"/>
            <a:ext cx="7440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ouble-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witc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1302480" y="2336760"/>
            <a:ext cx="143316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di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o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1444320" y="2781360"/>
            <a:ext cx="711900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blin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ser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ppe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1113120" y="3238560"/>
            <a:ext cx="70956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Pres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rro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key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ser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1347120" y="3720960"/>
            <a:ext cx="515448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igh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e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di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1112400" y="4178160"/>
            <a:ext cx="7236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Pres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ackspac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ke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re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im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ele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1315800" y="4648320"/>
            <a:ext cx="256248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e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di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1107360" y="5118120"/>
            <a:ext cx="7132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yp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&amp;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xt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pres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1302480" y="5587920"/>
            <a:ext cx="131904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k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816200" y="2654280"/>
            <a:ext cx="6400800" cy="2158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648360" y="469800"/>
            <a:ext cx="6932520" cy="22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di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she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di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od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di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Keyboar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hortcut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pp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n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ith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"/>
          <p:cNvSpPr/>
          <p:nvPr/>
        </p:nvSpPr>
        <p:spPr>
          <a:xfrm>
            <a:off x="189000" y="4838760"/>
            <a:ext cx="771192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ndo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do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aintain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ction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perform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ur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urre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469800" y="1968480"/>
            <a:ext cx="8077320" cy="3454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531360" y="431640"/>
            <a:ext cx="630360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di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she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splay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520560" y="1359000"/>
            <a:ext cx="8026560" cy="2006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533160" y="406440"/>
            <a:ext cx="4217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TextBox 1"/>
          <p:cNvSpPr/>
          <p:nvPr/>
        </p:nvSpPr>
        <p:spPr>
          <a:xfrm>
            <a:off x="499680" y="558720"/>
            <a:ext cx="828432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lum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as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dif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dif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ra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ouble-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ut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pec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"/>
          <p:cNvSpPr/>
          <p:nvPr/>
        </p:nvSpPr>
        <p:spPr>
          <a:xfrm>
            <a:off x="499680" y="406440"/>
            <a:ext cx="8284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lum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"/>
          <p:cNvSpPr/>
          <p:nvPr/>
        </p:nvSpPr>
        <p:spPr>
          <a:xfrm>
            <a:off x="537840" y="1282680"/>
            <a:ext cx="26708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1009800" y="1866960"/>
            <a:ext cx="74674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pres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"/>
          <p:cNvSpPr/>
          <p:nvPr/>
        </p:nvSpPr>
        <p:spPr>
          <a:xfrm>
            <a:off x="1249560" y="2425680"/>
            <a:ext cx="70639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ix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8.4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rac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qu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6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ix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1013040" y="2946240"/>
            <a:ext cx="58860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ix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a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1280880" y="3492360"/>
            <a:ext cx="16801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538200" y="4025880"/>
            <a:ext cx="2225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1004760" y="4610160"/>
            <a:ext cx="67788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eas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1/7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ch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1277280" y="5156280"/>
            <a:ext cx="9381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1010160" y="5676840"/>
            <a:ext cx="70855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fau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eigh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541080" y="406440"/>
            <a:ext cx="2436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544680" y="1434960"/>
            <a:ext cx="1425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869760" y="1498680"/>
            <a:ext cx="7620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siz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let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di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tter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la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ust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4337280" y="6603840"/>
            <a:ext cx="30981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Exc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8965080" y="6566040"/>
            <a:ext cx="78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"/>
          <p:cNvPicPr/>
          <p:nvPr/>
        </p:nvPicPr>
        <p:blipFill>
          <a:blip r:embed="rId2"/>
          <a:stretch/>
        </p:blipFill>
        <p:spPr>
          <a:xfrm>
            <a:off x="520560" y="1244520"/>
            <a:ext cx="8102880" cy="4254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"/>
          <p:cNvSpPr/>
          <p:nvPr/>
        </p:nvSpPr>
        <p:spPr>
          <a:xfrm>
            <a:off x="499680" y="406440"/>
            <a:ext cx="8284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lum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"/>
          <p:cNvSpPr/>
          <p:nvPr/>
        </p:nvSpPr>
        <p:spPr>
          <a:xfrm>
            <a:off x="499680" y="431640"/>
            <a:ext cx="828432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lum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siz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ut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TextBox 1"/>
          <p:cNvSpPr/>
          <p:nvPr/>
        </p:nvSpPr>
        <p:spPr>
          <a:xfrm>
            <a:off x="499680" y="507960"/>
            <a:ext cx="8284320" cy="35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lum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le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ea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le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ea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e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"/>
          <p:cNvSpPr/>
          <p:nvPr/>
        </p:nvSpPr>
        <p:spPr>
          <a:xfrm>
            <a:off x="511560" y="406440"/>
            <a:ext cx="6559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rapp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ex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"/>
          <p:cNvSpPr/>
          <p:nvPr/>
        </p:nvSpPr>
        <p:spPr>
          <a:xfrm>
            <a:off x="71640" y="1460520"/>
            <a:ext cx="858168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rapp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spl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ow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arr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lu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siz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idt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ppropria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is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pp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rapp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Hom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ab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lignme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group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ra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utt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r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ogg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el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excee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ra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"/>
          <p:cNvSpPr/>
          <p:nvPr/>
        </p:nvSpPr>
        <p:spPr>
          <a:xfrm>
            <a:off x="516600" y="406440"/>
            <a:ext cx="719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"/>
          <p:cNvSpPr/>
          <p:nvPr/>
        </p:nvSpPr>
        <p:spPr>
          <a:xfrm>
            <a:off x="59040" y="1460520"/>
            <a:ext cx="8467560" cy="54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dic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djac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A1:G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onadjac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A1:A5;F1:G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ra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558720" y="2806560"/>
            <a:ext cx="7759800" cy="2997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535680" y="469800"/>
            <a:ext cx="719640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se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le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is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if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ccommo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"/>
          <p:cNvSpPr/>
          <p:nvPr/>
        </p:nvSpPr>
        <p:spPr>
          <a:xfrm>
            <a:off x="495360" y="406440"/>
            <a:ext cx="7569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ov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an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"/>
          <p:cNvSpPr/>
          <p:nvPr/>
        </p:nvSpPr>
        <p:spPr>
          <a:xfrm>
            <a:off x="508320" y="1409760"/>
            <a:ext cx="786060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i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nt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i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p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ange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hol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ow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tr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ke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ra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o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"/>
          <p:cNvSpPr/>
          <p:nvPr/>
        </p:nvSpPr>
        <p:spPr>
          <a:xfrm>
            <a:off x="498960" y="406440"/>
            <a:ext cx="7320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opy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Ran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"/>
          <p:cNvSpPr/>
          <p:nvPr/>
        </p:nvSpPr>
        <p:spPr>
          <a:xfrm>
            <a:off x="504000" y="1422360"/>
            <a:ext cx="8072640" cy="41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ight-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ion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u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p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hortcu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e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pper-lef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s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s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2349360" y="1193760"/>
            <a:ext cx="4445280" cy="5092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"/>
          <p:cNvSpPr/>
          <p:nvPr/>
        </p:nvSpPr>
        <p:spPr>
          <a:xfrm>
            <a:off x="535680" y="406440"/>
            <a:ext cx="3767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Visu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2044800" y="1282680"/>
            <a:ext cx="4863960" cy="50547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"/>
          <p:cNvSpPr/>
          <p:nvPr/>
        </p:nvSpPr>
        <p:spPr>
          <a:xfrm>
            <a:off x="536040" y="406440"/>
            <a:ext cx="3792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she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2654280" y="1206360"/>
            <a:ext cx="4381560" cy="4991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5549760" y="6235560"/>
            <a:ext cx="2984760" cy="152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535680" y="406440"/>
            <a:ext cx="3767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Visu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596880" y="3492360"/>
            <a:ext cx="8140680" cy="19814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"/>
          <p:cNvSpPr/>
          <p:nvPr/>
        </p:nvSpPr>
        <p:spPr>
          <a:xfrm>
            <a:off x="667800" y="482760"/>
            <a:ext cx="733860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xpress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turn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ritt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perator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mbin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ffer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s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sult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ing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splay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"/>
          <p:cNvSpPr/>
          <p:nvPr/>
        </p:nvSpPr>
        <p:spPr>
          <a:xfrm>
            <a:off x="525960" y="406440"/>
            <a:ext cx="5450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"/>
          <p:cNvSpPr/>
          <p:nvPr/>
        </p:nvSpPr>
        <p:spPr>
          <a:xfrm>
            <a:off x="46440" y="1409760"/>
            <a:ext cx="845424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sul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pr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ith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odif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28600"/>
                <a:tab algn="l" pos="685800"/>
                <a:tab algn="l" pos="96516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444600" y="3568680"/>
            <a:ext cx="8229600" cy="2247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525960" y="406440"/>
            <a:ext cx="5450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"/>
          <p:cNvSpPr/>
          <p:nvPr/>
        </p:nvSpPr>
        <p:spPr>
          <a:xfrm>
            <a:off x="516960" y="1346040"/>
            <a:ext cx="79074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ce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defi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ter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equ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i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ppli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1587600" y="3645000"/>
            <a:ext cx="6197400" cy="26794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"/>
          <p:cNvSpPr/>
          <p:nvPr/>
        </p:nvSpPr>
        <p:spPr>
          <a:xfrm>
            <a:off x="525960" y="406440"/>
            <a:ext cx="5450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"/>
          <p:cNvSpPr/>
          <p:nvPr/>
        </p:nvSpPr>
        <p:spPr>
          <a:xfrm>
            <a:off x="654840" y="1346040"/>
            <a:ext cx="7631280" cy="23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iew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elec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vie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xpress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splay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ac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ferenc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l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d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rrespond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"/>
          <p:cNvPicPr/>
          <p:nvPr/>
        </p:nvPicPr>
        <p:blipFill>
          <a:blip r:embed="rId2"/>
          <a:stretch/>
        </p:blipFill>
        <p:spPr>
          <a:xfrm>
            <a:off x="635040" y="2882880"/>
            <a:ext cx="7899480" cy="3225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"/>
          <p:cNvSpPr/>
          <p:nvPr/>
        </p:nvSpPr>
        <p:spPr>
          <a:xfrm>
            <a:off x="520920" y="469800"/>
            <a:ext cx="748008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py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s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dju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f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"/>
          <p:cNvSpPr/>
          <p:nvPr/>
        </p:nvSpPr>
        <p:spPr>
          <a:xfrm>
            <a:off x="558720" y="507960"/>
            <a:ext cx="739116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uideli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ri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ffe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Ke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"/>
          <p:cNvSpPr/>
          <p:nvPr/>
        </p:nvSpPr>
        <p:spPr>
          <a:xfrm>
            <a:off x="536400" y="406440"/>
            <a:ext cx="5061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Introduc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"/>
          <p:cNvSpPr/>
          <p:nvPr/>
        </p:nvSpPr>
        <p:spPr>
          <a:xfrm>
            <a:off x="195120" y="1460520"/>
            <a:ext cx="8346960" cy="54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am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pera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turn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implifi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duc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o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mpac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tatement;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xample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d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ang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1:A10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lo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=A1+A2+A3+A4+A5+A6+A7+A8+A9+A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U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ccomplis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a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hing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=SUM(A1:A1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193760"/>
                <a:tab algn="l" pos="1371600"/>
                <a:tab algn="l" pos="1600200"/>
                <a:tab algn="l" pos="228600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TextBox 1"/>
          <p:cNvSpPr/>
          <p:nvPr/>
        </p:nvSpPr>
        <p:spPr>
          <a:xfrm>
            <a:off x="534240" y="571680"/>
            <a:ext cx="821556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utoSu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ast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nvenie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a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mmon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clud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button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quickl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sert/generat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u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(SU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verag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(AVERAG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ta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u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numeri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(COUN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inimu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(MI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Maximu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al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lum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o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(MAX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2"/>
          <a:stretch/>
        </p:blipFill>
        <p:spPr>
          <a:xfrm>
            <a:off x="571680" y="1663560"/>
            <a:ext cx="8089560" cy="37594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TextBox 1"/>
          <p:cNvSpPr/>
          <p:nvPr/>
        </p:nvSpPr>
        <p:spPr>
          <a:xfrm>
            <a:off x="534240" y="406440"/>
            <a:ext cx="8215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nte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Func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utoSu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"/>
          <p:cNvSpPr/>
          <p:nvPr/>
        </p:nvSpPr>
        <p:spPr>
          <a:xfrm>
            <a:off x="594000" y="520560"/>
            <a:ext cx="494604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Preview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orkbook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ang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or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ay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502000" y="1282680"/>
            <a:ext cx="4444920" cy="490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397480" y="6235560"/>
            <a:ext cx="2984400" cy="152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4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524160" y="406440"/>
            <a:ext cx="4285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" descr=""/>
          <p:cNvPicPr/>
          <p:nvPr/>
        </p:nvPicPr>
        <p:blipFill>
          <a:blip r:embed="rId2"/>
          <a:stretch/>
        </p:blipFill>
        <p:spPr>
          <a:xfrm>
            <a:off x="1155600" y="1612800"/>
            <a:ext cx="6908760" cy="4127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528120" y="406440"/>
            <a:ext cx="4138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Pa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Lay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" descr=""/>
          <p:cNvPicPr/>
          <p:nvPr/>
        </p:nvPicPr>
        <p:blipFill>
          <a:blip r:embed="rId2"/>
          <a:stretch/>
        </p:blipFill>
        <p:spPr>
          <a:xfrm>
            <a:off x="762120" y="1434960"/>
            <a:ext cx="7721640" cy="40640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"/>
          <p:cNvSpPr/>
          <p:nvPr/>
        </p:nvSpPr>
        <p:spPr>
          <a:xfrm>
            <a:off x="530280" y="406440"/>
            <a:ext cx="4616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Pa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Brea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P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"/>
          <p:cNvSpPr/>
          <p:nvPr/>
        </p:nvSpPr>
        <p:spPr>
          <a:xfrm>
            <a:off x="537840" y="520560"/>
            <a:ext cx="557964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Preview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rtra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ien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defau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ll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andsc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"/>
          <p:cNvSpPr/>
          <p:nvPr/>
        </p:nvSpPr>
        <p:spPr>
          <a:xfrm>
            <a:off x="533880" y="406440"/>
            <a:ext cx="482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Prin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"/>
          <p:cNvSpPr/>
          <p:nvPr/>
        </p:nvSpPr>
        <p:spPr>
          <a:xfrm>
            <a:off x="109080" y="1460520"/>
            <a:ext cx="846828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ovi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oo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clu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e.g.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ow/colum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ridline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actic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e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ns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o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a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en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un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e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457200"/>
                <a:tab algn="l" pos="80028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"/>
          <p:cNvPicPr/>
          <p:nvPr/>
        </p:nvPicPr>
        <p:blipFill>
          <a:blip r:embed="rId2"/>
          <a:stretch/>
        </p:blipFill>
        <p:spPr>
          <a:xfrm>
            <a:off x="444600" y="2082960"/>
            <a:ext cx="8076960" cy="32256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"/>
          <p:cNvSpPr/>
          <p:nvPr/>
        </p:nvSpPr>
        <p:spPr>
          <a:xfrm>
            <a:off x="533880" y="406440"/>
            <a:ext cx="482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Prin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Work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"/>
          <p:cNvPicPr/>
          <p:nvPr/>
        </p:nvPicPr>
        <p:blipFill>
          <a:blip r:embed="rId2"/>
          <a:stretch/>
        </p:blipFill>
        <p:spPr>
          <a:xfrm>
            <a:off x="1828800" y="3111480"/>
            <a:ext cx="5410080" cy="32637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"/>
          <p:cNvSpPr/>
          <p:nvPr/>
        </p:nvSpPr>
        <p:spPr>
          <a:xfrm>
            <a:off x="669600" y="152280"/>
            <a:ext cx="736308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View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Print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orkshee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Switc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sefu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ncount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nexpect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resul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a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examin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underly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discus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you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lleag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"/>
          <p:cNvPicPr/>
          <p:nvPr/>
        </p:nvPicPr>
        <p:blipFill>
          <a:blip r:embed="rId2"/>
          <a:stretch/>
        </p:blipFill>
        <p:spPr>
          <a:xfrm>
            <a:off x="1320840" y="2349360"/>
            <a:ext cx="6273720" cy="39117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" descr=""/>
          <p:cNvPicPr/>
          <p:nvPr/>
        </p:nvPicPr>
        <p:blipFill>
          <a:blip r:embed="rId3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"/>
          <p:cNvSpPr/>
          <p:nvPr/>
        </p:nvSpPr>
        <p:spPr>
          <a:xfrm>
            <a:off x="507960" y="177840"/>
            <a:ext cx="73407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View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an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Print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Workshee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409a"/>
                </a:solidFill>
                <a:latin typeface="Calibri"/>
                <a:ea typeface="宋体"/>
              </a:rPr>
              <a:t>Formula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ca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rint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orkshe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8325000" y="520560"/>
            <a:ext cx="4060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528480" y="406440"/>
            <a:ext cx="7655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Introduc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icrosof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525960" y="1409760"/>
            <a:ext cx="8130600" cy="40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ompu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progra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us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nter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tore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alyz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pres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quantitati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rganiz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asil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updatabl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man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reat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lectroni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vers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pread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olle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numbe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lai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u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gr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isplay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alculat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ro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Repres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bot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graphic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r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hroug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ha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536040" y="571680"/>
            <a:ext cx="8211960" cy="52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icrosof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201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llow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hat-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bil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han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preadshe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sses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ffec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he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alculat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val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utomatic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utomat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man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ask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hroug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u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clud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bot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utomati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usto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ormu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Quic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alys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o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llow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onvers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r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45720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har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w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as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536040" y="571680"/>
            <a:ext cx="8211960" cy="52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icrosof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201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tegrat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ro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ever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preadshee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ith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ingl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orkbook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ls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terfac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it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orkbook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ro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multipl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ourc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emplat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vailabl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budget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alendars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orms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rep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la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il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eat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llow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utomaticall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nter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bas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iti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450720" y="11365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-6480" y="6394320"/>
            <a:ext cx="8699760" cy="2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9384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750160" y="0"/>
            <a:ext cx="39384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536040" y="571680"/>
            <a:ext cx="8211960" cy="52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Microsof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Exc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201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20409a"/>
                </a:solidFill>
                <a:latin typeface="Calibri"/>
                <a:ea typeface="宋体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ffe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har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Recommen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eat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uggest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be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char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i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you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ls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creas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ilte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unctional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teracti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asil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il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qu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ab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409a"/>
                </a:solidFill>
                <a:latin typeface="Times New Roman"/>
                <a:ea typeface="宋体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Exce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d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n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orkbook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On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feat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allow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vie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multipl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workboo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simultaneous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73080" y="6566040"/>
            <a:ext cx="27370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erspect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CS</dc:creator>
  <dc:description/>
  <dc:language>en-US</dc:language>
  <cp:lastModifiedBy>PCS</cp:lastModifiedBy>
  <dcterms:modified xsi:type="dcterms:W3CDTF">2014-03-01T09:33:36Z</dcterms:modified>
  <cp:revision>10</cp:revision>
  <dc:subject/>
  <dc:title>Slide 1</dc:title>
</cp:coreProperties>
</file>